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365-EF82-4F04-BD97-097AD6D7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429-E0D2-4729-9DA3-423B652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FDC-A2F5-402A-8221-22C228CA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3C1-3543-4A01-BD62-6F7CE791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0796-034C-4447-AEF6-66D03356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C010-9429-4B58-A44F-DEDA8883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2966-9935-400F-B3E6-061CDD94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9828-4709-474D-B6E8-EF5924CA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0636-A8E0-4879-9683-0370CC0A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4F11-6B36-4646-BE59-09B27195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CB30-ED2E-4079-9250-C63EBC04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ACE-95AE-4E54-AAF5-7A235D7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59C-C743-4900-829A-0662DE9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7F05-0D7A-43D7-86F0-876C857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FDA-E953-451B-9E25-296F47F8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4821-A1A2-4C94-86FA-72E25439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3CBB-C423-4845-9E3F-1168D776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C6A-741A-4C5D-BD41-02C51B70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489-B105-4438-8478-E62E28C0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B15-E0AE-4117-A4EE-A15A29D5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00A-0FB0-4F4A-97C9-B723F940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6C7-F971-4A48-8565-0CC9333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FCD-5DB2-46BF-AC2B-1110B99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D3C-6580-4978-94B9-97A5998B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B6EB-B842-4624-8D48-BEC68F918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2425-7E39-4B74-A618-953372D39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hyfiles.org/090doping_sport/images/redblood.jpg&amp;imgrefurl=http://whyfiles.org/090doping_sport/3.html&amp;h=158&amp;w=222&amp;prev=/images%3Fq%3Dred%2Bblood%2Bcells%26svnum%3D10%26hl%3Den%26lr%3D%26ie%3DUTF-8%26oe%3DUTF-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4anemia.com/what_is_anemia/images/photos/red_blood_cells.jpg&amp;imgrefurl=http://www.4anemia.com/what_is_anemia/what_01.htm&amp;h=167&amp;w=159&amp;prev=/images%3Fq%3Dred%2Bblood%2Bcells%26svnum%3D10%26hl%3Den%26lr%3D%26ie%3DUTF-8%26oe%3DUTF-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Chapter 1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The Body’s Drink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Rh Blood Gro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blood group that was first studied in the Rhesus monk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h+  - Rh antigens on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h-  - Rh antigens are no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cause a problem in pregnancy if mother is Rh- and baby is Rh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her will make antibodies against the 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 – mother gets shot of Rho immune globu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ythr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ve ~ 120 days in males and 110 days in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 oxygen and remove CO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 hemoglobin – pigment – red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3623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ythr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globin bound to oxygen is bright red in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globin that is without oxygen is darker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/3 of body’s iron is found in hemogl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049480"/>
            <a:ext cx="3809880" cy="397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ry of RB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.5 million RBC are destroyed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RBC are produced as quickly as they are destr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opoiesis – process of blood cell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blood oxygen level will cause RBC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cells are formed in red marrow in b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undice – a build up of bilirubin in circulation causing a yellow skin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Bone Marr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Marrow – found in spongy bone and forms WBC, RBC, and plate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 Marrow – composed of fat and is not capable of blood cell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ge 20, blood formation occurs in humerus, femur, cranium, ribs, sternum, clavicles, vertebr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uk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herical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tish color because they lack hemoglo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than R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s against microorg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person’s WBC count is high -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images" descr=""/>
          <p:cNvPicPr/>
          <p:nvPr/>
        </p:nvPicPr>
        <p:blipFill>
          <a:blip r:embed="rId1"/>
          <a:stretch/>
        </p:blipFill>
        <p:spPr>
          <a:xfrm>
            <a:off x="762120" y="2489040"/>
            <a:ext cx="3809880" cy="324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 Major Types of Leuk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ulocytes – contain large cytoplasmic gran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anulocytes – contain small gran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 Kinds of Granul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ophils – most commo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ains is blood ~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–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d cell debris forms pus at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osinophils – release chemicals that reduce inflam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ophils – help regulate inflammatory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histamine = promotes inflam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heparin – prevents c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 Types of Agranul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ymphocy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mall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s important role in body’s immu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antibo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cy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larg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y leave the blood and into the tissue – they become macroph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phages – destroy bacteria, dead cells, and other deb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mbocytes – minute fragments of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in red m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 blood loss by causing blood clo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mages" descr=""/>
          <p:cNvPicPr/>
          <p:nvPr/>
        </p:nvPicPr>
        <p:blipFill>
          <a:blip r:embed="rId1"/>
          <a:stretch/>
        </p:blipFill>
        <p:spPr>
          <a:xfrm>
            <a:off x="685800" y="248436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- 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– a type of connective tissue that consists of cells and cell fragments surrounded by a liquid  matr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iquid portion is the pla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blood volume for avg. adult female = 4 to 5 liters and avg. adult male = 5 to 6 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makes up about 8% of total body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venting Blood Los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vessels constrict in response to injury, resulting in decreased blood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telet plug is produced to seal off the w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otonin is released to cause the blood vessels to constri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od clot – thromb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lus – detached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heart attack can occur from blockage of blood vessels that supply blood to 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ptokinase and aspirin can be given to break down the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f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usion – transfer of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or – person who gives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pient – person who receives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Donor – Type O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Recipient – Type AB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lete Blood Cou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BC – complete blood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RBC, hemoglobin, and W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BC – male – 4.6 to 6.2 million/mm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– 4.2 to 5.4 million/mm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BC – 5000 – 9000/mm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moglobin Measur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d amount of hemoglobin in a given volume of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 – 14 to 18 grams/100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– 12 to 16 grams/100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hemoglobin – anemia – low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Functions of Blo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s oxygen, nutrients, enzymes, and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s CO2 and waste products away from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body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body 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Fac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gen enters blood in the lungs and CO2 enters blood from tissu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of the volume of blood consist of RBC or erythr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% consists of WBC or leukocytes and cell fragments called platelets or thromb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Group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groups are determined by antigens on the surface of RB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gens are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odies will bind to the antigens resulting in agglutination or hemolysis or RB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lutination – clumping of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lysis – rupture of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ABO Blood Gro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is categorized by the ABO Blood group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 antigens appear on the surface of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Blood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 Blood – A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B Blood – B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B Blood – A and B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 Blood – does not have A or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Population Distrib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 – 4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B – 1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B – 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 – 4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+ - 8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- - 1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 Blood – B anti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B Blood – A anti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B Blood – does not have A or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 Blood – has A and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matching Blood groups can result in transfusion rea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7:27:32Z</dcterms:created>
  <dc:creator>Covin</dc:creator>
  <dc:description/>
  <dc:language>en-US</dc:language>
  <cp:lastModifiedBy>Covin</cp:lastModifiedBy>
  <dcterms:modified xsi:type="dcterms:W3CDTF">2003-10-21T23:30:17Z</dcterms:modified>
  <cp:revision>33</cp:revision>
  <dc:subject/>
  <dc:title>Chapter 10 Blood</dc:title>
</cp:coreProperties>
</file>